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A41E-B992-4CF0-A9EB-AFBA3BEBA20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1A8B-8114-4A2F-8C2F-390733C85F38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6B2C-B4A8-4567-BCFF-D7DA3F5696A9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D9B7-7095-4367-99EA-2BFB4705CD32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E7C9-8CA9-45C4-81F8-7ECA6905A14E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2640-0C5D-450A-A9CB-E7EA57F187E1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4852-52E9-4442-8A9D-834F8001CE86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9A88-45A2-4232-8E53-4537B7523E5C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2F41-1ACA-44A0-A2E4-9B44A3126754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8429-34EB-4F8B-8FA3-317838A940CE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8B7F-EE03-423B-AF8C-AB3150BC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523C-9E9E-4E73-947F-654AF6CC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99D1-5FC7-4551-BAB0-A866E951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8288-F2FC-4E90-8520-07D9F559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2C54-F1DD-40A1-846E-27462783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EA0C-C5F8-4A17-B27D-C034A0B8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1AF3-5445-43B9-B72F-D5C34BE0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C596-5264-43B7-818F-D089EB07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6582-3144-4AB1-B68C-B4542254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5701-30AD-46D6-BCA9-BA818CCC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750B-7351-42FB-87B8-F5D56695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DC6A-C887-43FC-AEFC-ACF2CFF4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830C-3B5F-4092-A2C5-105A2339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4A15-AC3A-43FD-AD4B-128B3AE7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AC4E-5C67-4D44-9F9F-46AF32EB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7409-EE3A-42DE-9A53-DCC0891E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D70B-47BC-437B-BABB-4159A89D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A03C-019F-4C80-8C53-5F8029CB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A135-2B88-4D49-9768-C91E7B82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D1C0-C129-45CD-95A3-BB741740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FF3F-6392-4F07-98BE-B6A039A3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6FAD2-21D4-4D81-9270-C52334B2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F72F-04E0-45D4-BCF0-7BD6BBCE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073F7-B075-42F1-B1EF-C19F7552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A99D-0FC5-4189-BA3A-FE748EF6539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D83E-9483-4E29-A87E-788DA19B52AF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dfdef6"/>
                </a:solidFill>
                <a:latin typeface="Arial"/>
              </a:rPr>
              <a:t>So gelangt Ihre Ansage auf Ihren Anrufbeantworter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971640" y="465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Zum Fortfahren klicken Sie mit der linken Maus oder der </a:t>
            </a:r>
            <a:r>
              <a:rPr b="0" lang="de-DE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Tas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5"/>
          <p:cNvSpPr/>
          <p:nvPr/>
        </p:nvSpPr>
        <p:spPr>
          <a:xfrm>
            <a:off x="3132000" y="2997360"/>
            <a:ext cx="280836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35344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Grundsätzlich unterscheidet man vier Arten des Aufspielens von Ansage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79280" y="2997360"/>
            <a:ext cx="280836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6">
            <a:hlinkClick r:id="" action="ppaction://hlinkshowjump?jump=nextslide"/>
          </p:cNvPr>
          <p:cNvSpPr/>
          <p:nvPr/>
        </p:nvSpPr>
        <p:spPr>
          <a:xfrm>
            <a:off x="250920" y="32130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Direkte Einspiel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über das eingebaute Mikrof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179280" y="4076640"/>
            <a:ext cx="2808360" cy="504720"/>
          </a:xfrm>
          <a:prstGeom prst="rect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2527c"/>
                </a:solidFill>
                <a:latin typeface="Arial"/>
              </a:rPr>
              <a:t>Immer mögl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12"/>
          <p:cNvSpPr/>
          <p:nvPr/>
        </p:nvSpPr>
        <p:spPr>
          <a:xfrm>
            <a:off x="3132000" y="4076640"/>
            <a:ext cx="2808360" cy="504720"/>
          </a:xfrm>
          <a:prstGeom prst="rect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2527c"/>
                </a:solidFill>
                <a:latin typeface="Arial"/>
              </a:rPr>
              <a:t>AB besitzt Audio-Eing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13"/>
          <p:cNvSpPr/>
          <p:nvPr/>
        </p:nvSpPr>
        <p:spPr>
          <a:xfrm>
            <a:off x="1187280" y="2565360"/>
            <a:ext cx="1151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2527c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AutoShape 14"/>
          <p:cNvSpPr/>
          <p:nvPr/>
        </p:nvSpPr>
        <p:spPr>
          <a:xfrm>
            <a:off x="3924360" y="2565360"/>
            <a:ext cx="11509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2527c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16"/>
          <p:cNvSpPr/>
          <p:nvPr/>
        </p:nvSpPr>
        <p:spPr>
          <a:xfrm>
            <a:off x="6156360" y="2997360"/>
            <a:ext cx="280836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6227640" y="3068640"/>
            <a:ext cx="251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Indirekte Einspiel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über eine Verbindu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zum PC oder per SD-Ca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7"/>
          <p:cNvSpPr/>
          <p:nvPr/>
        </p:nvSpPr>
        <p:spPr>
          <a:xfrm>
            <a:off x="3276720" y="3068640"/>
            <a:ext cx="251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Kabel-Einspiel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über eine Verbindung zu einem Abspielgerä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CD- oder MP3-Play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18"/>
          <p:cNvSpPr/>
          <p:nvPr/>
        </p:nvSpPr>
        <p:spPr>
          <a:xfrm>
            <a:off x="6948360" y="2565360"/>
            <a:ext cx="11509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2527c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20"/>
          <p:cNvSpPr/>
          <p:nvPr/>
        </p:nvSpPr>
        <p:spPr>
          <a:xfrm>
            <a:off x="6156360" y="4076640"/>
            <a:ext cx="2808360" cy="504720"/>
          </a:xfrm>
          <a:prstGeom prst="rect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2527c"/>
                </a:solidFill>
                <a:latin typeface="Arial"/>
              </a:rPr>
              <a:t>AB-Anbindung an P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21"/>
          <p:cNvSpPr/>
          <p:nvPr/>
        </p:nvSpPr>
        <p:spPr>
          <a:xfrm>
            <a:off x="1547640" y="4581360"/>
            <a:ext cx="0" cy="2160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22"/>
          <p:cNvSpPr/>
          <p:nvPr/>
        </p:nvSpPr>
        <p:spPr>
          <a:xfrm>
            <a:off x="7596360" y="4581360"/>
            <a:ext cx="0" cy="2160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23"/>
          <p:cNvSpPr/>
          <p:nvPr/>
        </p:nvSpPr>
        <p:spPr>
          <a:xfrm>
            <a:off x="4500720" y="4581360"/>
            <a:ext cx="0" cy="2160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24"/>
          <p:cNvSpPr/>
          <p:nvPr/>
        </p:nvSpPr>
        <p:spPr>
          <a:xfrm>
            <a:off x="1547640" y="4797360"/>
            <a:ext cx="60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AutoShape 25"/>
          <p:cNvSpPr/>
          <p:nvPr/>
        </p:nvSpPr>
        <p:spPr>
          <a:xfrm>
            <a:off x="3924360" y="4797360"/>
            <a:ext cx="11509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2527c"/>
                </a:solidFill>
                <a:latin typeface="Arial Black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26"/>
          <p:cNvSpPr/>
          <p:nvPr/>
        </p:nvSpPr>
        <p:spPr>
          <a:xfrm>
            <a:off x="3132000" y="5229360"/>
            <a:ext cx="2808360" cy="36036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27"/>
          <p:cNvSpPr/>
          <p:nvPr/>
        </p:nvSpPr>
        <p:spPr>
          <a:xfrm>
            <a:off x="3132000" y="5229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Fern-Einspiel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28"/>
          <p:cNvSpPr/>
          <p:nvPr/>
        </p:nvSpPr>
        <p:spPr>
          <a:xfrm>
            <a:off x="3132000" y="5589720"/>
            <a:ext cx="2808360" cy="863640"/>
          </a:xfrm>
          <a:prstGeom prst="rect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2527c"/>
                </a:solidFill>
                <a:latin typeface="Arial"/>
              </a:rPr>
              <a:t>AB besitzt Fernabfrage 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2527c"/>
                </a:solidFill>
                <a:latin typeface="Arial"/>
              </a:rPr>
              <a:t>Möglichkeit der Ansage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2527c"/>
                </a:solidFill>
                <a:latin typeface="Arial"/>
              </a:rPr>
              <a:t>änder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4"/>
          <p:cNvSpPr/>
          <p:nvPr/>
        </p:nvSpPr>
        <p:spPr>
          <a:xfrm>
            <a:off x="539640" y="765000"/>
            <a:ext cx="2808360" cy="10796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611280" y="9810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Direkte Einspiel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über das eingebaute Mikrof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539640" y="1844640"/>
            <a:ext cx="2808360" cy="504720"/>
          </a:xfrm>
          <a:prstGeom prst="rect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2527c"/>
                </a:solidFill>
                <a:latin typeface="Arial"/>
              </a:rPr>
              <a:t>Immer mögl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7"/>
          <p:cNvSpPr/>
          <p:nvPr/>
        </p:nvSpPr>
        <p:spPr>
          <a:xfrm>
            <a:off x="1403280" y="333360"/>
            <a:ext cx="11509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2527c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9" descr="Überspielung 7"/>
          <p:cNvPicPr/>
          <p:nvPr/>
        </p:nvPicPr>
        <p:blipFill>
          <a:blip r:embed="rId1"/>
          <a:stretch/>
        </p:blipFill>
        <p:spPr>
          <a:xfrm>
            <a:off x="539640" y="2637000"/>
            <a:ext cx="2808360" cy="163800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0"/>
          <p:cNvSpPr/>
          <p:nvPr/>
        </p:nvSpPr>
        <p:spPr>
          <a:xfrm>
            <a:off x="903240" y="4292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bspielgerä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11" descr="Überspielung 6"/>
          <p:cNvPicPr/>
          <p:nvPr/>
        </p:nvPicPr>
        <p:blipFill>
          <a:blip r:embed="rId2"/>
          <a:stretch/>
        </p:blipFill>
        <p:spPr>
          <a:xfrm>
            <a:off x="3635280" y="2637000"/>
            <a:ext cx="2449440" cy="16286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12"/>
          <p:cNvSpPr/>
          <p:nvPr/>
        </p:nvSpPr>
        <p:spPr>
          <a:xfrm>
            <a:off x="3927600" y="429264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nrufbeantwor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13"/>
          <p:cNvSpPr/>
          <p:nvPr/>
        </p:nvSpPr>
        <p:spPr>
          <a:xfrm>
            <a:off x="3635280" y="4724280"/>
            <a:ext cx="2449440" cy="1009800"/>
          </a:xfrm>
          <a:prstGeom prst="rect">
            <a:avLst/>
          </a:prstGeom>
          <a:solidFill>
            <a:srgbClr val="ccccff"/>
          </a:solidFill>
          <a:ln w="9360">
            <a:solidFill>
              <a:srgbClr val="5252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estigen Sie Ihren Ohrclip mi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em Klebestreifen direkt vo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m Aufnahmemikrofon Ihr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rufbeantworters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AutoShape 15"/>
          <p:cNvSpPr/>
          <p:nvPr/>
        </p:nvSpPr>
        <p:spPr>
          <a:xfrm>
            <a:off x="3348000" y="3357720"/>
            <a:ext cx="358920" cy="144360"/>
          </a:xfrm>
          <a:prstGeom prst="rightArrow">
            <a:avLst>
              <a:gd name="adj1" fmla="val 50000"/>
              <a:gd name="adj2" fmla="val 6215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6"/>
          <p:cNvSpPr/>
          <p:nvPr/>
        </p:nvSpPr>
        <p:spPr>
          <a:xfrm>
            <a:off x="3475080" y="765000"/>
            <a:ext cx="498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rstaunlicher Weise können auf diesem Wege rech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gute Ergebnisse erzielt werden. Beachten Sie unsere Tipp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Anstatt selbst zu sprechen, spielen Sie die Audio-Datei übe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en  Kopfhörerausgang eines geeigneten Abspielgerätes ab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MP3-Player, CD-Player, PC oder ähnliches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17"/>
          <p:cNvSpPr/>
          <p:nvPr/>
        </p:nvSpPr>
        <p:spPr>
          <a:xfrm>
            <a:off x="6192720" y="2637000"/>
            <a:ext cx="2700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Vermeiden Sie nach Beginn des Aufnahmevorgangs auf jeden Fall jedes Berühren oder Stoßen des Anrufbeantworters. Anstelle eines Ohrclips können Sie auch eine Muschel eines Kopfhörers verwend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18"/>
          <p:cNvSpPr/>
          <p:nvPr/>
        </p:nvSpPr>
        <p:spPr>
          <a:xfrm>
            <a:off x="6227640" y="4724280"/>
            <a:ext cx="2449800" cy="1009800"/>
          </a:xfrm>
          <a:prstGeom prst="rect">
            <a:avLst/>
          </a:prstGeom>
          <a:solidFill>
            <a:srgbClr val="ccccff"/>
          </a:solidFill>
          <a:ln w="9360">
            <a:solidFill>
              <a:srgbClr val="5252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it dem anderen Ohrclip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ntrollieren Sie di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ufende Ans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4"/>
          <p:cNvSpPr/>
          <p:nvPr/>
        </p:nvSpPr>
        <p:spPr>
          <a:xfrm>
            <a:off x="816480" y="1289160"/>
            <a:ext cx="73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Unser TIPP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esonders gute Ergebnisse erzielen Sie, wenn Sie zur Dämmu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es Raumschalls über das Mikrofon eine Decke oder ein Kissen leg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886320" y="3089160"/>
            <a:ext cx="678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c000"/>
                </a:solidFill>
                <a:latin typeface="Arial"/>
              </a:rPr>
              <a:t>Die häufigsten Probleme beim Überspielen entstehen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us einer zu gering gewählten Lautstärke des Abspielgerä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urch die Nichtbeachtung vorgegebener Zeitinterval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(einige Anrufbeantworter schalten nach 2 Sekunden Pause ab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2987640" y="1700280"/>
            <a:ext cx="280836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2987640" y="2779560"/>
            <a:ext cx="2808360" cy="505080"/>
          </a:xfrm>
          <a:prstGeom prst="rect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2527c"/>
                </a:solidFill>
                <a:latin typeface="Arial"/>
              </a:rPr>
              <a:t>AB besitzt Audio-Eing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3780000" y="1268280"/>
            <a:ext cx="11509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2527c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3132000" y="1771560"/>
            <a:ext cx="2519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Kabel-Einspiel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über eine Verbindung zu einem Abspielgerä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CD- oder MP3-Play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2057400" y="3787920"/>
            <a:ext cx="49068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Verbinden Sie den Ausgang des Abspielgerätes mit d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Audioeingang Ihres AB und spielen Sie die Ansage ab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Achten Sie darauf, gegebenenfalls vor der Überspielung d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Qualitätsstufe für Aufnahmen in Ihrem AB zu optimier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Beispielgeräte: TIPTEL 345 clip oder 540 offic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4"/>
          <p:cNvSpPr/>
          <p:nvPr/>
        </p:nvSpPr>
        <p:spPr>
          <a:xfrm>
            <a:off x="3203640" y="907920"/>
            <a:ext cx="2808360" cy="10796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3274920" y="979560"/>
            <a:ext cx="25192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Indirekte Einspiel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über eine Verbindu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zum PC oder per SD-Ca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AutoShape 6"/>
          <p:cNvSpPr/>
          <p:nvPr/>
        </p:nvSpPr>
        <p:spPr>
          <a:xfrm>
            <a:off x="3995640" y="476280"/>
            <a:ext cx="11509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2527c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7"/>
          <p:cNvSpPr/>
          <p:nvPr/>
        </p:nvSpPr>
        <p:spPr>
          <a:xfrm>
            <a:off x="3203640" y="1987560"/>
            <a:ext cx="2808360" cy="504720"/>
          </a:xfrm>
          <a:prstGeom prst="rect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2527c"/>
                </a:solidFill>
                <a:latin typeface="Arial"/>
              </a:rPr>
              <a:t>AB-Anbindung an P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900000" y="3376440"/>
            <a:ext cx="824400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Öffnen Sie in der Bedienungssoftware für Ihren AB den Ordner, in dem di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udiodateien abgelegt sind und schieben Sie per Drag and Drop d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eue Datei in den Ordner oder bespielen Sie einfach Ihre SD-Card mit d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gewünschten Audio-Datei und stecken die Card in Ihren AB (Tiptel 540 S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chten Sie auf das erforderliche Dateiform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Übliche Formate: (Ihr Format entnehmen Sie der Gebrauchsanleitung Ihrer Anlag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CITT a-law, 8khz, 8bit, mono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CITT u-law, 11khz, 8 bit, mono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wav, 8khz, 8bit, mono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wav, 8khz, 16 bit , mo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11"/>
          <p:cNvSpPr/>
          <p:nvPr/>
        </p:nvSpPr>
        <p:spPr>
          <a:xfrm>
            <a:off x="3203640" y="2492280"/>
            <a:ext cx="2808360" cy="505080"/>
          </a:xfrm>
          <a:prstGeom prst="rect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2527c"/>
                </a:solidFill>
                <a:latin typeface="Arial"/>
              </a:rPr>
              <a:t>AB mit SD-Card </a:t>
            </a:r>
            <a:r>
              <a:rPr b="1" lang="de-DE" sz="1000" spc="-1" strike="noStrike">
                <a:solidFill>
                  <a:srgbClr val="52527c"/>
                </a:solidFill>
                <a:latin typeface="Arial"/>
              </a:rPr>
              <a:t>(Tiptel 540 SD)</a:t>
            </a:r>
            <a:r>
              <a:rPr b="0" lang="de-DE" sz="1800" spc="-1" strike="noStrike">
                <a:solidFill>
                  <a:srgbClr val="52527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AutoShape 4"/>
          <p:cNvSpPr/>
          <p:nvPr/>
        </p:nvSpPr>
        <p:spPr>
          <a:xfrm>
            <a:off x="3708360" y="476280"/>
            <a:ext cx="11509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2527c"/>
                </a:solidFill>
                <a:latin typeface="Arial Black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2916360" y="907920"/>
            <a:ext cx="2808000" cy="36036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2916360" y="907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Fern-Einspiel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2916360" y="1268280"/>
            <a:ext cx="2808000" cy="863640"/>
          </a:xfrm>
          <a:prstGeom prst="rect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2527c"/>
                </a:solidFill>
                <a:latin typeface="Arial"/>
              </a:rPr>
              <a:t>AB besitzt Fernabfrage 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2527c"/>
                </a:solidFill>
                <a:latin typeface="Arial"/>
              </a:rPr>
              <a:t>Möglichkeit der Ansage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2527c"/>
                </a:solidFill>
                <a:latin typeface="Arial"/>
              </a:rPr>
              <a:t>änder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684360" y="2565360"/>
            <a:ext cx="734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Mithilfe geeigneter Soft- und Hardware in unserem Studio sind wir ab sofort in der Lage, Ihre professionelle Ansage direkt auf ihren Anrufbeantworter aufzuspiel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684360" y="3716280"/>
            <a:ext cx="727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ontrollieren Sie, ob Ihr AB eine Fernabfrage mit der Möglichkeit der Änderung von Ansagen besitzt. Falls ja, teilen Sie uns Ihren Fernabfrage-Code mi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10"/>
          <p:cNvSpPr/>
          <p:nvPr/>
        </p:nvSpPr>
        <p:spPr>
          <a:xfrm>
            <a:off x="709560" y="4941720"/>
            <a:ext cx="746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aufen Sie ein Tiptel-Modell beim Midi-Music-Studio, so ist eine spätere Änderung von Ansagen durch Fernwartung immer möglic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9"/>
          <p:cNvSpPr/>
          <p:nvPr/>
        </p:nvSpPr>
        <p:spPr>
          <a:xfrm>
            <a:off x="2340000" y="2637000"/>
            <a:ext cx="47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iel Erfolg beim Kopiervorgang Ihrer Ans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2704320" y="2997360"/>
            <a:ext cx="39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© Ein Service vom Midi-Music-Stud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395280" y="476280"/>
            <a:ext cx="8302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fdef6"/>
                </a:solidFill>
                <a:latin typeface="Arial"/>
              </a:rPr>
              <a:t>Besuchen Sie uns im Internet u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1908000" y="981000"/>
            <a:ext cx="504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dfdef6"/>
                </a:solidFill>
                <a:latin typeface="Arial"/>
              </a:rPr>
              <a:t>www.mm-studio.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Picture 4" descr="Screenshot Webseite Kopie"/>
          <p:cNvPicPr/>
          <p:nvPr/>
        </p:nvPicPr>
        <p:blipFill>
          <a:blip r:embed="rId1"/>
          <a:stretch/>
        </p:blipFill>
        <p:spPr>
          <a:xfrm>
            <a:off x="1763640" y="1773360"/>
            <a:ext cx="5978520" cy="4886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19:35:12Z</dcterms:created>
  <dc:creator>HH</dc:creator>
  <dc:description/>
  <dc:language>en-US</dc:language>
  <cp:lastModifiedBy>Horst</cp:lastModifiedBy>
  <dcterms:modified xsi:type="dcterms:W3CDTF">2013-04-15T18:21:18Z</dcterms:modified>
  <cp:revision>40</cp:revision>
  <dc:subject/>
  <dc:title>So gelangt Ihre Ansage auf Ihren Anrufbeantworter</dc:title>
</cp:coreProperties>
</file>